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7C79-BE1B-4D1E-911C-DC40D838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62A-1CDF-4C99-9C5D-1DF8F4719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FE75-30A0-4263-B7FF-10669665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7E77-3C80-44AF-A0BD-5CC7A135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0966-03FA-4A51-BB6A-F3994BE9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B332-61A2-415F-8D02-86C63B39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19EC-428B-48F4-9F0D-5E638DCA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D966-7080-4366-9450-E422AB95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A760-AA28-49CD-9655-C262EBA5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C74A-6F7E-43BE-82FB-CFD8D367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AE84-9827-4DC2-A086-1C7BCBE5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38D2-8B93-4362-BC49-C2E46685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54BD-E837-4620-BF1D-3BD7808F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3856-0603-4E8F-B337-7F8EDD7D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80A3-6906-453C-8A61-F93FA604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AA91-D796-4D0E-AF54-A795CAF0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7051-576C-4CC2-B81B-6278F3473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95B-A76C-4A85-9BE3-D3017473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666F-990F-499C-8825-B5EDC5C9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AFCC-6742-4F56-A9B6-DF69846C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8381-36CF-41D7-9837-829A368F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5F17-5C3E-4A73-948F-0F2A2BAB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A01-C7EE-4E18-8F2C-F2FB14C5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4D5-1255-4B26-937F-F9C7A466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0E8D-E215-4F9A-A8F8-F2CAF5130CDA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2B87-3A55-4636-A81F-17EC8FE6E78B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40488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nit 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876560" y="4368600"/>
            <a:ext cx="4259160" cy="74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Atoms, Elements, and the Periodic 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matte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at figure 1 on page 72. What in these pictures is matt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ter is anything that has mass and takes up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some things that are not made up of mat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tom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mall particle that makes up most mat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your science journal, draw what you think and atom looks l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one time was believed to be a solid un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broken into even smaller p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utron, electron, and prot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mocrit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eek philosopher, lived from 460BC to 370 B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imed that each type of matter was made up of specific ato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 example: solid water (ice) is made of different atoms than liquid wa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s ideas were ignored until the early 1800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5" descr="458px-Coypel_Democritus"/>
          <p:cNvPicPr/>
          <p:nvPr/>
        </p:nvPicPr>
        <p:blipFill>
          <a:blip r:embed="rId1"/>
          <a:stretch/>
        </p:blipFill>
        <p:spPr>
          <a:xfrm>
            <a:off x="5950080" y="2362320"/>
            <a:ext cx="232884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voisier’s Contrib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chemist, lived 2000 years after Democri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 of Conservation of Matter- Matter is neither created nor destroyed. It simply changes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you burn wood, what happens to the lo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ohn Dalt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d that matter is made up of atoms that are too small to be se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imed that each element was made up of specific atoms that were unique to that 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findings are known as the atomic theory of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J Thoms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served that electricity flowed from negative to positive components of a sealed tube and could be bent by a mag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knew that opposites attract and the beam was traveling towards a positive charge, so therefore the beam must be made of negatively charged p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ctrons- subatomic particles with a negative char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o what keeps us from being electrocute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don’t get a shock when you touch everything, so what must also be present in the ato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ositively charged parti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o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rnest Rutherfor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910, his team shot gold foil with alpha p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itively charged partic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ce all of the alpha particles did not pass through the foil, he predicted that most of the atom was made up of empty 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therford’s results provided him with information to name the nucl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cleus- Positively charged central part of the at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s prot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mes Chadwic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istant to Rutherf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overed the neutron- neutral particle in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nd this data when he noticed that the gold atoms in the foil had released some mass with no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 unknown mass is what Chadwick called the neu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dern Atomic Mod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at Figure 8 on pg. 7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model is the accepted atomic model (Bohr’s Mod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 the negatively charged electron cloud and the positively charged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portant Vocabul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w of Conservation of Ma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cle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utr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5080" y="2819160"/>
            <a:ext cx="346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ic Numb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oto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ss Numb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ic M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n-Me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lo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st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ou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x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w Resear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rn science has advanced atomic rese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ons and electrons have whole charges +1 or -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articles in the nucleus are now broken down into even smaller particles called quar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se particles are identified by their spin pattern and have a fractional char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p, down, strange, charmed, top, and bott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implest Matt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ment- matter made up of only one kind of at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least 115 elements are known and 90 of them occur naturally on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-natural elements are known as synthetic el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ed from nuclear reactions in machines known as particle acceler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rganizing the Ele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mitri Mendeleev organized the first periodic table in order of each element’s m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table only included 60 known el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dern Periodic Table is organized by atomic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Periodic T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Structure and Organization o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60948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Important Vocabular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609480" y="1981080"/>
            <a:ext cx="34671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w of Conservation of Ma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cl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u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229280" y="1981080"/>
            <a:ext cx="34668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ic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ot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ss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ic 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n-M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lo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x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an Atom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tom is the simplest form of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is made of three  major p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Proton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itive Charge, In the Nucle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Electron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gative Charge, In the Shells and Orbita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Neutron -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Charge, In the Nucle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t’s Draw an Ato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Oval 3"/>
          <p:cNvSpPr/>
          <p:nvPr/>
        </p:nvSpPr>
        <p:spPr>
          <a:xfrm>
            <a:off x="3352680" y="2666880"/>
            <a:ext cx="2590920" cy="24386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3581280" y="3200400"/>
            <a:ext cx="609840" cy="609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35812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4191120" y="4419720"/>
            <a:ext cx="609480" cy="6094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8"/>
          <p:cNvSpPr/>
          <p:nvPr/>
        </p:nvSpPr>
        <p:spPr>
          <a:xfrm>
            <a:off x="2743200" y="2057400"/>
            <a:ext cx="4038480" cy="3809880"/>
          </a:xfrm>
          <a:prstGeom prst="ellipse">
            <a:avLst/>
          </a:prstGeom>
          <a:noFill/>
          <a:ln w="101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4114800" y="2819520"/>
            <a:ext cx="609480" cy="609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41148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3657600" y="3886200"/>
            <a:ext cx="609480" cy="6094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13"/>
          <p:cNvSpPr/>
          <p:nvPr/>
        </p:nvSpPr>
        <p:spPr>
          <a:xfrm>
            <a:off x="3352680" y="2057400"/>
            <a:ext cx="609840" cy="609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14"/>
          <p:cNvSpPr/>
          <p:nvPr/>
        </p:nvSpPr>
        <p:spPr>
          <a:xfrm>
            <a:off x="5410080" y="5334120"/>
            <a:ext cx="609840" cy="609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15"/>
          <p:cNvSpPr/>
          <p:nvPr/>
        </p:nvSpPr>
        <p:spPr>
          <a:xfrm>
            <a:off x="4876920" y="2895480"/>
            <a:ext cx="609480" cy="609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Box 16"/>
          <p:cNvSpPr/>
          <p:nvPr/>
        </p:nvSpPr>
        <p:spPr>
          <a:xfrm>
            <a:off x="4876920" y="28954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19"/>
          <p:cNvSpPr/>
          <p:nvPr/>
        </p:nvSpPr>
        <p:spPr>
          <a:xfrm>
            <a:off x="4952880" y="3886200"/>
            <a:ext cx="609840" cy="6094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 20"/>
          <p:cNvSpPr/>
          <p:nvPr/>
        </p:nvSpPr>
        <p:spPr>
          <a:xfrm>
            <a:off x="4343400" y="3581280"/>
            <a:ext cx="609480" cy="60984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21"/>
          <p:cNvSpPr/>
          <p:nvPr/>
        </p:nvSpPr>
        <p:spPr>
          <a:xfrm>
            <a:off x="1752480" y="1523880"/>
            <a:ext cx="6096240" cy="5181840"/>
          </a:xfrm>
          <a:prstGeom prst="ellipse">
            <a:avLst/>
          </a:prstGeom>
          <a:noFill/>
          <a:ln w="101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22"/>
          <p:cNvSpPr/>
          <p:nvPr/>
        </p:nvSpPr>
        <p:spPr>
          <a:xfrm>
            <a:off x="6705720" y="1981080"/>
            <a:ext cx="609480" cy="609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23"/>
          <p:cNvSpPr/>
          <p:nvPr/>
        </p:nvSpPr>
        <p:spPr>
          <a:xfrm>
            <a:off x="35053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24"/>
          <p:cNvSpPr/>
          <p:nvPr/>
        </p:nvSpPr>
        <p:spPr>
          <a:xfrm>
            <a:off x="685800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25"/>
          <p:cNvSpPr/>
          <p:nvPr/>
        </p:nvSpPr>
        <p:spPr>
          <a:xfrm>
            <a:off x="548640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tice a few things about our atom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protons does it ha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neutrons does it ha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electrons does it ha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object in the cent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rings does it ha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electrons are on the outside 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protons me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protons is also the atomic number of the atom/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Hydrogen, atomic symbol H, has 1 proton since it is element #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many protons does each of these hav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ryllium, Oxygen, Nitrogen, Xenon, Carb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me the element with the number of protons show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4, 27, 5, 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Neutrons me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add the number of neutrons and protons, you get the atomic m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the decimal number underneath the atomic symb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gnesium is element #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many proton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s atomic mass is 24.3050, which rounds to 2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many neutrons does Magnesium hav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unch La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 into your Science Te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at the materials provided as I give you dir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stion: Will you see all three states of matter in this lab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your hypothe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form the Experi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electrons me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are the negatively charged particles located in the rings around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exactly the same number of protons as there are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electr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dium – Atomic Number 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licon – Atomic Number 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senic – Atomic Number 3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the thing in the cente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is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two particles are in the nucleu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overall charge does the nucleus hav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the rings me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rings tells you on which row the element is loc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drogen has how many ring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many rings does Helium hav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bout Carb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bout Iodin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the outer electrons me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uter ring electrons are called valence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tell you to which column or family the element belo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Note: This only applies to families 1,2 and 13-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many valence electrons does Hydrogen have? Neon? Aluminu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for Rules on Rings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ing Ru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nner ring, #1, can only have 2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econd ring can have up to 8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hird ring can have up to 18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ourth ring can have up to 32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rings up to ring #7, the last ring, can have up to 32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Y VOCAB: Energy Level – the rings containing electrons are actually called energy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753400" cy="64771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380880" y="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838080" y="609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6248520" y="68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6781680" y="68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7238880" y="68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9"/>
          <p:cNvSpPr/>
          <p:nvPr/>
        </p:nvSpPr>
        <p:spPr>
          <a:xfrm>
            <a:off x="7696080" y="68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10"/>
          <p:cNvSpPr/>
          <p:nvPr/>
        </p:nvSpPr>
        <p:spPr>
          <a:xfrm>
            <a:off x="8153280" y="68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8610480" y="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8534520" y="380880"/>
            <a:ext cx="457200" cy="685800"/>
          </a:xfrm>
          <a:prstGeom prst="rect">
            <a:avLst/>
          </a:prstGeom>
          <a:noFill/>
          <a:ln w="82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1371600" y="1523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Transition Metals DO NOT Follow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0" y="68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15"/>
          <p:cNvSpPr/>
          <p:nvPr/>
        </p:nvSpPr>
        <p:spPr>
          <a:xfrm>
            <a:off x="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16"/>
          <p:cNvSpPr/>
          <p:nvPr/>
        </p:nvSpPr>
        <p:spPr>
          <a:xfrm>
            <a:off x="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17"/>
          <p:cNvSpPr/>
          <p:nvPr/>
        </p:nvSpPr>
        <p:spPr>
          <a:xfrm>
            <a:off x="0" y="251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18"/>
          <p:cNvSpPr/>
          <p:nvPr/>
        </p:nvSpPr>
        <p:spPr>
          <a:xfrm>
            <a:off x="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19"/>
          <p:cNvSpPr/>
          <p:nvPr/>
        </p:nvSpPr>
        <p:spPr>
          <a:xfrm>
            <a:off x="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20"/>
          <p:cNvSpPr/>
          <p:nvPr/>
        </p:nvSpPr>
        <p:spPr>
          <a:xfrm>
            <a:off x="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058320" cy="54864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1752480" y="2286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Naming the Elemental Fami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TextBox 5" descr=""/>
          <p:cNvPicPr/>
          <p:nvPr/>
        </p:nvPicPr>
        <p:blipFill>
          <a:blip r:embed="rId2"/>
          <a:stretch/>
        </p:blipFill>
        <p:spPr>
          <a:xfrm>
            <a:off x="-12600" y="0"/>
            <a:ext cx="744480" cy="1542960"/>
          </a:xfrm>
          <a:prstGeom prst="rect">
            <a:avLst/>
          </a:prstGeom>
          <a:ln w="0">
            <a:noFill/>
          </a:ln>
        </p:spPr>
      </p:pic>
      <p:pic>
        <p:nvPicPr>
          <p:cNvPr id="238" name="TextBox 6" descr=""/>
          <p:cNvPicPr/>
          <p:nvPr/>
        </p:nvPicPr>
        <p:blipFill>
          <a:blip r:embed="rId3"/>
          <a:stretch/>
        </p:blipFill>
        <p:spPr>
          <a:xfrm>
            <a:off x="457200" y="-219240"/>
            <a:ext cx="646200" cy="2340000"/>
          </a:xfrm>
          <a:prstGeom prst="rect">
            <a:avLst/>
          </a:prstGeom>
          <a:ln w="0">
            <a:noFill/>
          </a:ln>
        </p:spPr>
      </p:pic>
      <p:pic>
        <p:nvPicPr>
          <p:cNvPr id="239" name="TextBox 7" descr=""/>
          <p:cNvPicPr/>
          <p:nvPr/>
        </p:nvPicPr>
        <p:blipFill>
          <a:blip r:embed="rId4"/>
          <a:stretch/>
        </p:blipFill>
        <p:spPr>
          <a:xfrm>
            <a:off x="8004240" y="450720"/>
            <a:ext cx="646200" cy="1670040"/>
          </a:xfrm>
          <a:prstGeom prst="rect">
            <a:avLst/>
          </a:prstGeom>
          <a:ln w="0">
            <a:noFill/>
          </a:ln>
        </p:spPr>
      </p:pic>
      <p:pic>
        <p:nvPicPr>
          <p:cNvPr id="240" name="TextBox 8" descr=""/>
          <p:cNvPicPr/>
          <p:nvPr/>
        </p:nvPicPr>
        <p:blipFill>
          <a:blip r:embed="rId5"/>
          <a:stretch/>
        </p:blipFill>
        <p:spPr>
          <a:xfrm>
            <a:off x="8534520" y="-231840"/>
            <a:ext cx="506160" cy="1774800"/>
          </a:xfrm>
          <a:prstGeom prst="rect">
            <a:avLst/>
          </a:prstGeom>
          <a:ln w="0">
            <a:noFill/>
          </a:ln>
        </p:spPr>
      </p:pic>
      <p:sp>
        <p:nvSpPr>
          <p:cNvPr id="241" name="Straight Connector 10"/>
          <p:cNvSpPr/>
          <p:nvPr/>
        </p:nvSpPr>
        <p:spPr>
          <a:xfrm flipH="1">
            <a:off x="6170760" y="1982880"/>
            <a:ext cx="288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Straight Connector 11"/>
          <p:cNvSpPr/>
          <p:nvPr/>
        </p:nvSpPr>
        <p:spPr>
          <a:xfrm flipH="1">
            <a:off x="6172200" y="2514600"/>
            <a:ext cx="5335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Straight Connector 14"/>
          <p:cNvSpPr/>
          <p:nvPr/>
        </p:nvSpPr>
        <p:spPr>
          <a:xfrm flipH="1">
            <a:off x="6705720" y="2514600"/>
            <a:ext cx="144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Straight Connector 15"/>
          <p:cNvSpPr/>
          <p:nvPr/>
        </p:nvSpPr>
        <p:spPr>
          <a:xfrm flipH="1">
            <a:off x="7162920" y="3048120"/>
            <a:ext cx="1440" cy="609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Straight Connector 16"/>
          <p:cNvSpPr/>
          <p:nvPr/>
        </p:nvSpPr>
        <p:spPr>
          <a:xfrm flipH="1">
            <a:off x="7620120" y="3657600"/>
            <a:ext cx="144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Straight Connector 17"/>
          <p:cNvSpPr/>
          <p:nvPr/>
        </p:nvSpPr>
        <p:spPr>
          <a:xfrm flipH="1">
            <a:off x="8077320" y="4191120"/>
            <a:ext cx="144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traight Connector 18"/>
          <p:cNvSpPr/>
          <p:nvPr/>
        </p:nvSpPr>
        <p:spPr>
          <a:xfrm flipH="1">
            <a:off x="6629400" y="3048120"/>
            <a:ext cx="5335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Straight Connector 20"/>
          <p:cNvSpPr/>
          <p:nvPr/>
        </p:nvSpPr>
        <p:spPr>
          <a:xfrm flipH="1">
            <a:off x="7162560" y="3657600"/>
            <a:ext cx="53316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traight Connector 21"/>
          <p:cNvSpPr/>
          <p:nvPr/>
        </p:nvSpPr>
        <p:spPr>
          <a:xfrm flipH="1">
            <a:off x="7619760" y="4191120"/>
            <a:ext cx="53316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22"/>
          <p:cNvSpPr/>
          <p:nvPr/>
        </p:nvSpPr>
        <p:spPr>
          <a:xfrm>
            <a:off x="6172200" y="1981080"/>
            <a:ext cx="457200" cy="53352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23"/>
          <p:cNvSpPr/>
          <p:nvPr/>
        </p:nvSpPr>
        <p:spPr>
          <a:xfrm>
            <a:off x="6629400" y="2514600"/>
            <a:ext cx="457200" cy="53352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24"/>
          <p:cNvSpPr/>
          <p:nvPr/>
        </p:nvSpPr>
        <p:spPr>
          <a:xfrm>
            <a:off x="6629400" y="3048120"/>
            <a:ext cx="533520" cy="60948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25"/>
          <p:cNvSpPr/>
          <p:nvPr/>
        </p:nvSpPr>
        <p:spPr>
          <a:xfrm>
            <a:off x="7162920" y="3048120"/>
            <a:ext cx="457200" cy="60948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6"/>
          <p:cNvSpPr/>
          <p:nvPr/>
        </p:nvSpPr>
        <p:spPr>
          <a:xfrm>
            <a:off x="7162920" y="3657600"/>
            <a:ext cx="457200" cy="53352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27"/>
          <p:cNvSpPr/>
          <p:nvPr/>
        </p:nvSpPr>
        <p:spPr>
          <a:xfrm>
            <a:off x="7620120" y="3657600"/>
            <a:ext cx="457200" cy="53352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28"/>
          <p:cNvSpPr/>
          <p:nvPr/>
        </p:nvSpPr>
        <p:spPr>
          <a:xfrm>
            <a:off x="7620120" y="4191120"/>
            <a:ext cx="457200" cy="53316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9"/>
          <p:cNvSpPr/>
          <p:nvPr/>
        </p:nvSpPr>
        <p:spPr>
          <a:xfrm>
            <a:off x="8077320" y="4191120"/>
            <a:ext cx="457200" cy="53316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30"/>
          <p:cNvSpPr/>
          <p:nvPr/>
        </p:nvSpPr>
        <p:spPr>
          <a:xfrm>
            <a:off x="1447920" y="2590920"/>
            <a:ext cx="4647960" cy="459720"/>
          </a:xfrm>
          <a:prstGeom prst="rect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Transition Me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31"/>
          <p:cNvSpPr/>
          <p:nvPr/>
        </p:nvSpPr>
        <p:spPr>
          <a:xfrm>
            <a:off x="6629400" y="1981080"/>
            <a:ext cx="2362320" cy="53352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36"/>
          <p:cNvSpPr/>
          <p:nvPr/>
        </p:nvSpPr>
        <p:spPr>
          <a:xfrm>
            <a:off x="8534520" y="1371600"/>
            <a:ext cx="457200" cy="60948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8"/>
          <p:cNvSpPr/>
          <p:nvPr/>
        </p:nvSpPr>
        <p:spPr>
          <a:xfrm>
            <a:off x="7086600" y="2514600"/>
            <a:ext cx="1905120" cy="53352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7620120" y="3048120"/>
            <a:ext cx="1371600" cy="60948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45"/>
          <p:cNvSpPr/>
          <p:nvPr/>
        </p:nvSpPr>
        <p:spPr>
          <a:xfrm>
            <a:off x="8077320" y="3657600"/>
            <a:ext cx="914400" cy="53352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48"/>
          <p:cNvSpPr/>
          <p:nvPr/>
        </p:nvSpPr>
        <p:spPr>
          <a:xfrm>
            <a:off x="8534520" y="4191120"/>
            <a:ext cx="457200" cy="53316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rganization on the Periodic T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ws are called famil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the same number of energy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umns are called grou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the same number of valence electrons and bond simila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otop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you know about isotop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s with the same number of protons, but different numbers of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otopes determined by mass number (the sum of protons and neutrons in the nucle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s number on the periodic table is the average mass of the el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ydrogen Isotop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drogen has three isotop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t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 proton, 0 neutr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st abunda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uter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 proton, 1 neutr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adioactiv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it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 proton, 2 neutr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adioactiv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Picture 5" descr="isotopes"/>
          <p:cNvPicPr/>
          <p:nvPr/>
        </p:nvPicPr>
        <p:blipFill>
          <a:blip r:embed="rId1"/>
          <a:stretch/>
        </p:blipFill>
        <p:spPr>
          <a:xfrm>
            <a:off x="5319720" y="2957400"/>
            <a:ext cx="26575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unch Lab Discus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happened to the paper towe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caused this resul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ter was the liquid state of mat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aper towel was a sol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ir in the cup was the g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 is matter because it occupies 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lement categor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s- shiny, metallic luster, good conductors of electricity and he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l metals are solid at room temperature except mercury (liqui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n-metals- usually dull in appearance, brittle (can change shape)– be familiar with figure 1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ually poor conductors of electric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ny are gasses at room tem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loids- characteristics of metals and nonmetals, found in a stairstep pattern between metals and non-met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l are solid at room tem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talloid Stairste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5" descr="periodic%20table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ounds and Mixtu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tance- mixture with the same chemical properties through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ound- substance whose smallest unit is made up of atoms of two or more el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properties different than the elements that make up the comp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ound Examp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re some properties of hydrog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re some properties of oxyg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re some properties of the compound made up of 2 hydrogen atoms and 1 oxygen ato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bout 2 hydrogen and 2 oxyg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oun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form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ing the form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fixes: mono-, di-, tri-, quad-, pent- hex-, hepto-, octo-, nono- deca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ffixes: -ine, -ane, -ite, -ate, -o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’s practice a few naming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ame these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dium (Na) + Chlorine (Cl) = Na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gen (H) + Oxygen (O) =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gen (H) + Chlorine (Cl) = H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bon (C) + Oxygen (O) =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Hydrogen (H) + 3 Carbon (C) =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drocarbons have special naming techniques- we will discuss these techniques in Chapter 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wo substances (elements or compounds) do not combine to make a new substance when mix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happens when you combine oil and wat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erve the bottle I have prepar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wo kinds of Mixtu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ogeneous- the same through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s: Teas, Soda, Fruit flavored soft drin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terogeneous- larger components that are visibly different from one an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s: Salads, cookies, mixed nu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Quick Re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and name the parts of an at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5 things that are matter and five things that are not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difference between atomic mass and atomic numb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and describe the Isotopes of Hydro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quick Re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an isotope and what makes them possibl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ve: An atom of Phosphorous has 15 protons and 15 neutrons, what is the mass numb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ve: The element Tungsten has a mass number of 184, how many neutrons does Tungsten ha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un Scientist Spotl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15080" y="2819160"/>
            <a:ext cx="346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onardo di ser Piero da Vin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Self-portrait of Leonardo da Vinci"/>
          <p:cNvPicPr/>
          <p:nvPr/>
        </p:nvPicPr>
        <p:blipFill>
          <a:blip r:embed="rId1"/>
          <a:stretch/>
        </p:blipFill>
        <p:spPr>
          <a:xfrm>
            <a:off x="1973160" y="2819520"/>
            <a:ext cx="2111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Quick Re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difference between homogeneous and heterogeneous mixtur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hree types of elements are there and give properties of those element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cts about da Vinc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rn April 15, 1452 to unmarried parents, thus received no last n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ver attended scho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was a vegetar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915080" y="2819160"/>
            <a:ext cx="346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left handed, and wrote in mirrored scrip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ver marr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nk was his favorite color…it made his complexion look fre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ved animals…would buy caged birds just to set them f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ft over half of his works incomple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15080" y="2819160"/>
            <a:ext cx="346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 personally destroyed many of his drawings and pain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inted th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ona Lis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Last Supp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along with many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scinated with human anatomy – dissected over 300 bo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ketche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Vitruvian M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15080" y="2819160"/>
            <a:ext cx="346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Inven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achute, hang glider, helicopter, airplane, barreled organ, machine gun, armored tank, motor car, humanoid robot, 220 meter bridge – still in use tod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hanical Engi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tan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p Mak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trono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hematic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915080" y="2819160"/>
            <a:ext cx="346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3:52:25Z</dcterms:created>
  <dc:creator>Adam's Homepage</dc:creator>
  <dc:description/>
  <dc:language>en-US</dc:language>
  <cp:lastModifiedBy>Adam Goosby</cp:lastModifiedBy>
  <dcterms:modified xsi:type="dcterms:W3CDTF">2013-09-19T14:30:31Z</dcterms:modified>
  <cp:revision>13</cp:revision>
  <dc:subject/>
  <dc:title>Chapter 3</dc:title>
</cp:coreProperties>
</file>